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C4E9-588E-4B26-AFE7-4228961035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9D1D-2C80-4198-A614-D63BDDD47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033E-27F3-4070-9943-C50E1FB610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7D07-7A86-4077-BF45-A639054D1C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AC09-A2E8-47D6-9647-23B2123DC0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9FC7-FA70-4483-A92C-B30E5B28F9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BF35-3103-4243-B6FF-8326E9509D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E073-7A5A-43EA-A42C-40CC6EEDC0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8994-A5F8-4859-895E-8EBE9C4D57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C272-CF73-4419-A9AD-B2FFF756F6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7FCC-5785-4C89-91E0-08C7920DBB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CAE8-284D-445D-91CB-ED7E03C0D3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1613-30EA-441C-80CA-59A48BEACD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FBCB-BF09-4117-8801-4742784AD9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E1B5-C818-4FC4-AE2B-C056BB8B49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2B03-6A63-4B6A-B2FE-6263760CDE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CA3C-25ED-4403-B00F-52759D6EEE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7C4D-0DBD-49FC-9F95-545204B96A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380E-DFDD-48EC-81A7-E138EB9CD6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141C-22DA-45A9-B68E-21F90FE34E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136A-DC35-4C89-AF2C-9902E17B8B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Unité 3 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ité 3 – Home Sweet Home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3549600" y="3809880"/>
            <a:ext cx="34164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Pratiqu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Contex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: M. &amp; Mme. Diffère sont un couple bizarre. Mme. Diffère est l’opposée de son mari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Tâche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dites comment est M. Diffère basé sur la description de sa femm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429000" y="4317840"/>
            <a:ext cx="3465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di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diligen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paresseus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01" name="Content Placeholder 4" descr="MCj03978020000[1]"/>
          <p:cNvPicPr/>
          <p:nvPr/>
        </p:nvPicPr>
        <p:blipFill>
          <a:blip r:embed="rId1"/>
          <a:stretch/>
        </p:blipFill>
        <p:spPr>
          <a:xfrm>
            <a:off x="1981080" y="1600200"/>
            <a:ext cx="63248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433520" y="1447920"/>
            <a:ext cx="7480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e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v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6826320" y="197496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ll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ê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ch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685800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éné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égoï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s adjectifs sont utilisés (used) pour décrire quelqu’un ou quelque chos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x. grand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ign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intelligen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8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cc99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0" y="0"/>
          <a:ext cx="9144000" cy="6931080"/>
        </p:xfrm>
        <a:graphic>
          <a:graphicData uri="http://schemas.openxmlformats.org/drawingml/2006/table">
            <a:tbl>
              <a:tblPr/>
              <a:tblGrid>
                <a:gridCol w="2338560"/>
                <a:gridCol w="2306520"/>
                <a:gridCol w="1514520"/>
                <a:gridCol w="1514520"/>
                <a:gridCol w="1469880"/>
              </a:tblGrid>
              <a:tr h="622440">
                <a:tc gridSpan="5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Les Adjectifs - BAN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C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Vo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uv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uv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Text Box 332"/>
          <p:cNvSpPr/>
          <p:nvPr/>
        </p:nvSpPr>
        <p:spPr>
          <a:xfrm>
            <a:off x="2438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33"/>
          <p:cNvSpPr/>
          <p:nvPr/>
        </p:nvSpPr>
        <p:spPr>
          <a:xfrm>
            <a:off x="434340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34"/>
          <p:cNvSpPr/>
          <p:nvPr/>
        </p:nvSpPr>
        <p:spPr>
          <a:xfrm>
            <a:off x="5867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35"/>
          <p:cNvSpPr/>
          <p:nvPr/>
        </p:nvSpPr>
        <p:spPr>
          <a:xfrm>
            <a:off x="7315200" y="1889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36"/>
          <p:cNvSpPr/>
          <p:nvPr/>
        </p:nvSpPr>
        <p:spPr>
          <a:xfrm>
            <a:off x="2438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7"/>
          <p:cNvSpPr/>
          <p:nvPr/>
        </p:nvSpPr>
        <p:spPr>
          <a:xfrm>
            <a:off x="434340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38"/>
          <p:cNvSpPr/>
          <p:nvPr/>
        </p:nvSpPr>
        <p:spPr>
          <a:xfrm>
            <a:off x="5867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39"/>
          <p:cNvSpPr/>
          <p:nvPr/>
        </p:nvSpPr>
        <p:spPr>
          <a:xfrm>
            <a:off x="7391520" y="24987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40"/>
          <p:cNvSpPr/>
          <p:nvPr/>
        </p:nvSpPr>
        <p:spPr>
          <a:xfrm>
            <a:off x="2438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41"/>
          <p:cNvSpPr/>
          <p:nvPr/>
        </p:nvSpPr>
        <p:spPr>
          <a:xfrm>
            <a:off x="434340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42"/>
          <p:cNvSpPr/>
          <p:nvPr/>
        </p:nvSpPr>
        <p:spPr>
          <a:xfrm>
            <a:off x="5867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43"/>
          <p:cNvSpPr/>
          <p:nvPr/>
        </p:nvSpPr>
        <p:spPr>
          <a:xfrm>
            <a:off x="7391520" y="3048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44"/>
          <p:cNvSpPr/>
          <p:nvPr/>
        </p:nvSpPr>
        <p:spPr>
          <a:xfrm>
            <a:off x="2438280" y="3641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45"/>
          <p:cNvSpPr/>
          <p:nvPr/>
        </p:nvSpPr>
        <p:spPr>
          <a:xfrm>
            <a:off x="434340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46"/>
          <p:cNvSpPr/>
          <p:nvPr/>
        </p:nvSpPr>
        <p:spPr>
          <a:xfrm>
            <a:off x="586728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47"/>
          <p:cNvSpPr/>
          <p:nvPr/>
        </p:nvSpPr>
        <p:spPr>
          <a:xfrm>
            <a:off x="73915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48"/>
          <p:cNvSpPr/>
          <p:nvPr/>
        </p:nvSpPr>
        <p:spPr>
          <a:xfrm>
            <a:off x="2438280" y="4251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49"/>
          <p:cNvSpPr/>
          <p:nvPr/>
        </p:nvSpPr>
        <p:spPr>
          <a:xfrm>
            <a:off x="434340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50"/>
          <p:cNvSpPr/>
          <p:nvPr/>
        </p:nvSpPr>
        <p:spPr>
          <a:xfrm>
            <a:off x="586728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51"/>
          <p:cNvSpPr/>
          <p:nvPr/>
        </p:nvSpPr>
        <p:spPr>
          <a:xfrm>
            <a:off x="7391520" y="42670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52"/>
          <p:cNvSpPr/>
          <p:nvPr/>
        </p:nvSpPr>
        <p:spPr>
          <a:xfrm>
            <a:off x="2438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53"/>
          <p:cNvSpPr/>
          <p:nvPr/>
        </p:nvSpPr>
        <p:spPr>
          <a:xfrm>
            <a:off x="434340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54"/>
          <p:cNvSpPr/>
          <p:nvPr/>
        </p:nvSpPr>
        <p:spPr>
          <a:xfrm>
            <a:off x="5867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55"/>
          <p:cNvSpPr/>
          <p:nvPr/>
        </p:nvSpPr>
        <p:spPr>
          <a:xfrm>
            <a:off x="7391520" y="4800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56"/>
          <p:cNvSpPr/>
          <p:nvPr/>
        </p:nvSpPr>
        <p:spPr>
          <a:xfrm>
            <a:off x="2438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57"/>
          <p:cNvSpPr/>
          <p:nvPr/>
        </p:nvSpPr>
        <p:spPr>
          <a:xfrm>
            <a:off x="434340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58"/>
          <p:cNvSpPr/>
          <p:nvPr/>
        </p:nvSpPr>
        <p:spPr>
          <a:xfrm>
            <a:off x="5867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59"/>
          <p:cNvSpPr/>
          <p:nvPr/>
        </p:nvSpPr>
        <p:spPr>
          <a:xfrm>
            <a:off x="7391520" y="5394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60"/>
          <p:cNvSpPr/>
          <p:nvPr/>
        </p:nvSpPr>
        <p:spPr>
          <a:xfrm>
            <a:off x="2438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1"/>
          <p:cNvSpPr/>
          <p:nvPr/>
        </p:nvSpPr>
        <p:spPr>
          <a:xfrm>
            <a:off x="434340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2"/>
          <p:cNvSpPr/>
          <p:nvPr/>
        </p:nvSpPr>
        <p:spPr>
          <a:xfrm>
            <a:off x="5867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3"/>
          <p:cNvSpPr/>
          <p:nvPr/>
        </p:nvSpPr>
        <p:spPr>
          <a:xfrm>
            <a:off x="7391520" y="5943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64"/>
          <p:cNvSpPr/>
          <p:nvPr/>
        </p:nvSpPr>
        <p:spPr>
          <a:xfrm>
            <a:off x="2438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65"/>
          <p:cNvSpPr/>
          <p:nvPr/>
        </p:nvSpPr>
        <p:spPr>
          <a:xfrm>
            <a:off x="434340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66"/>
          <p:cNvSpPr/>
          <p:nvPr/>
        </p:nvSpPr>
        <p:spPr>
          <a:xfrm>
            <a:off x="5867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67"/>
          <p:cNvSpPr/>
          <p:nvPr/>
        </p:nvSpPr>
        <p:spPr>
          <a:xfrm>
            <a:off x="7391520" y="6461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Direction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Demandez à votre partenaire les questions suivantes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Votre partenaire doit répondre en utilisant l’adjectif indiqué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ATTENTION: QUELQUES ADJECTIFS DOIVENT PRÉCÉDÉS L’OBJET QU’ILS MODIFIENT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3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324480" y="3043080"/>
            <a:ext cx="265284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6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019920" y="2757600"/>
            <a:ext cx="29653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9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5386320" y="3124080"/>
            <a:ext cx="344160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2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5867280" y="3178080"/>
            <a:ext cx="327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5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3276720" y="2895480"/>
            <a:ext cx="30621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des(f) 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8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6553080" y="3124080"/>
            <a:ext cx="18608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1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6019920" y="2995560"/>
            <a:ext cx="28652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4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248520" y="3174840"/>
            <a:ext cx="26794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ais pour tous les adjectifs, il faut les accorder en genre et nombr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Genre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Times New Roman"/>
              </a:rPr>
              <a:t>mascul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cc"/>
                </a:solidFill>
                <a:latin typeface="Times New Roman"/>
              </a:rPr>
              <a:t>fémin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Nombr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singulier (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pluriel (x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vieux burea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705720" y="4648320"/>
            <a:ext cx="20574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04920" y="3809880"/>
            <a:ext cx="8534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nouvelle chaîne stéré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781680" y="4510080"/>
            <a:ext cx="21733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belle lamp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6477120" y="4648320"/>
            <a:ext cx="2385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grand tap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6248520" y="4800600"/>
            <a:ext cx="22003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vieille armo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6735600" y="228600"/>
            <a:ext cx="24084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des 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de jolies étagèr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7238880" y="1349280"/>
            <a:ext cx="15559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04920" y="3733920"/>
            <a:ext cx="8534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nouvelle commo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7010280" y="4495680"/>
            <a:ext cx="17989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304920" y="365760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grand l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629400" y="4329000"/>
            <a:ext cx="18414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On peut l’organiser comme ceci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895480"/>
          <a:ext cx="7731000" cy="3353040"/>
        </p:xfrm>
        <a:graphic>
          <a:graphicData uri="http://schemas.openxmlformats.org/drawingml/2006/table">
            <a:tbl>
              <a:tblPr/>
              <a:tblGrid>
                <a:gridCol w="2092320"/>
                <a:gridCol w="2819520"/>
                <a:gridCol w="281916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GREBERT,VIVIANE</cp:lastModifiedBy>
  <dcterms:modified xsi:type="dcterms:W3CDTF">2017-02-05T17:26:00Z</dcterms:modified>
  <cp:revision>95</cp:revision>
  <dc:subject/>
  <dc:title>Allez, viens! – Level 2</dc:title>
</cp:coreProperties>
</file>